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17FD-BCDA-4854-AAE5-9F3F0E630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CB16-E319-4120-AE50-589C67D10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4A38-B2AE-4C39-B00B-671821619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18B2-C6D8-4C94-A982-D5F284D9F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E0D-B31F-4164-BEDD-522FA81F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38A-0A4E-40D1-ABD2-2EAA1250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432-28DA-451A-93D4-07C461CA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5F0-1BA3-47A8-8F24-E6423C67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346-E641-4C52-A9C5-D86464F4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E30-81A8-47C8-B742-D86BF858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DD4-823A-40A3-A337-A19314FD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DBE-C1DC-48D4-95F6-B16154C5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D44-0A6A-47CF-B1D4-47C288CC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EAC-EA7B-48B4-ADC9-EBFC41A1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881-0A46-41ED-B57F-EE32F70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F0D-C191-4A07-B4BE-2548D7C3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1A94-B123-4116-9A7B-8246B1E7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learning how to integrate technology into her classro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Go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9044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451320"/>
            <a:ext cx="16128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st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9, 19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ke Gooch, 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Gooch, 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  in Special Ed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 and 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8816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9544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762120" y="6664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am born to Mike and Mar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9, 19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41588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rn 16 and become a know-it-all.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9,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my first job teaching soon after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,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egan my Master’s Degree in Special Educatio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dear Mamaw passes awa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 many new and exciting change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mer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9" name="Picture 1" descr=""/>
          <p:cNvPicPr/>
          <p:nvPr/>
        </p:nvPicPr>
        <p:blipFill>
          <a:blip r:embed="rId5"/>
          <a:stretch/>
        </p:blipFill>
        <p:spPr>
          <a:xfrm>
            <a:off x="-20520" y="378000"/>
            <a:ext cx="1784160" cy="218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6" descr=""/>
          <p:cNvPicPr/>
          <p:nvPr/>
        </p:nvPicPr>
        <p:blipFill>
          <a:blip r:embed="rId6"/>
          <a:stretch/>
        </p:blipFill>
        <p:spPr>
          <a:xfrm>
            <a:off x="2057400" y="2449440"/>
            <a:ext cx="476280" cy="582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7" descr=""/>
          <p:cNvPicPr/>
          <p:nvPr/>
        </p:nvPicPr>
        <p:blipFill>
          <a:blip r:embed="rId7"/>
          <a:stretch/>
        </p:blipFill>
        <p:spPr>
          <a:xfrm>
            <a:off x="2057400" y="3181320"/>
            <a:ext cx="476280" cy="58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8" descr=""/>
          <p:cNvPicPr/>
          <p:nvPr/>
        </p:nvPicPr>
        <p:blipFill>
          <a:blip r:embed="rId8"/>
          <a:stretch/>
        </p:blipFill>
        <p:spPr>
          <a:xfrm>
            <a:off x="2066760" y="5975280"/>
            <a:ext cx="474840" cy="582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9" descr=""/>
          <p:cNvPicPr/>
          <p:nvPr/>
        </p:nvPicPr>
        <p:blipFill>
          <a:blip r:embed="rId9"/>
          <a:stretch/>
        </p:blipFill>
        <p:spPr>
          <a:xfrm>
            <a:off x="2048040" y="5284800"/>
            <a:ext cx="475920" cy="58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0" descr=""/>
          <p:cNvPicPr/>
          <p:nvPr/>
        </p:nvPicPr>
        <p:blipFill>
          <a:blip r:embed="rId10"/>
          <a:stretch/>
        </p:blipFill>
        <p:spPr>
          <a:xfrm>
            <a:off x="2057400" y="4581360"/>
            <a:ext cx="476280" cy="582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"/>
          <p:cNvPicPr/>
          <p:nvPr/>
        </p:nvPicPr>
        <p:blipFill>
          <a:blip r:embed="rId11"/>
          <a:stretch/>
        </p:blipFill>
        <p:spPr>
          <a:xfrm>
            <a:off x="2066760" y="3862440"/>
            <a:ext cx="474840" cy="58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12"/>
          <a:stretch/>
        </p:blipFill>
        <p:spPr>
          <a:xfrm>
            <a:off x="519120" y="5326200"/>
            <a:ext cx="561960" cy="57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13"/>
          <a:stretch/>
        </p:blipFill>
        <p:spPr>
          <a:xfrm>
            <a:off x="1424160" y="6045120"/>
            <a:ext cx="55404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14"/>
          <a:stretch/>
        </p:blipFill>
        <p:spPr>
          <a:xfrm>
            <a:off x="-22320" y="5308560"/>
            <a:ext cx="425520" cy="6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15"/>
          <a:stretch/>
        </p:blipFill>
        <p:spPr>
          <a:xfrm>
            <a:off x="833400" y="6029280"/>
            <a:ext cx="571680" cy="68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16"/>
          <a:stretch/>
        </p:blipFill>
        <p:spPr>
          <a:xfrm>
            <a:off x="-20520" y="6056280"/>
            <a:ext cx="82080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17"/>
          <a:stretch/>
        </p:blipFill>
        <p:spPr>
          <a:xfrm>
            <a:off x="1219320" y="5326200"/>
            <a:ext cx="7300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learning how to integrate technology into her classro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Go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152280" y="49766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4"/>
          <p:cNvSpPr/>
          <p:nvPr/>
        </p:nvSpPr>
        <p:spPr>
          <a:xfrm>
            <a:off x="2133720" y="1905120"/>
            <a:ext cx="312408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September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Kingston, T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Long Distance Relations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Bapt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eaching, working out, and preparing lesson pl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veling, Snow Skiing, Boating, Cooking/ Ba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Just a Kiss (Lady Antebellum), If We Ever Meet Again (Timberlan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aturing Katy Perry), Dirt Road Anthem (Jason Aldean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, Top Gun, Back to the Future, Stand By Me, Th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lind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ville, Dexter, Law and Order: SVU, NCIS, Covert Affairs,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cessary Roughness, In Plain Sight, Hot in Clevel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utsiders, To Kill a Mockingbird, Secret Life of Be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838080" y="54864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847800" y="60768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http://msgooch.wikispaces.com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mgooch21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0" descr="TTU.jpg"/>
          <p:cNvPicPr/>
          <p:nvPr/>
        </p:nvPicPr>
        <p:blipFill>
          <a:blip r:embed="rId2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8" name="Picture 41" descr=""/>
          <p:cNvPicPr/>
          <p:nvPr/>
        </p:nvPicPr>
        <p:blipFill>
          <a:blip r:embed="rId3"/>
          <a:stretch/>
        </p:blipFill>
        <p:spPr>
          <a:xfrm>
            <a:off x="-15840" y="380880"/>
            <a:ext cx="1784160" cy="21830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4"/>
          <p:cNvSpPr/>
          <p:nvPr/>
        </p:nvSpPr>
        <p:spPr>
          <a:xfrm>
            <a:off x="139680" y="3451320"/>
            <a:ext cx="16128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st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9, 19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ke Gooch, 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y Gooch, 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  in Special Ed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4"/>
          <a:stretch/>
        </p:blipFill>
        <p:spPr>
          <a:xfrm>
            <a:off x="157320" y="5410080"/>
            <a:ext cx="690480" cy="460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5"/>
          <a:stretch/>
        </p:blipFill>
        <p:spPr>
          <a:xfrm>
            <a:off x="101520" y="6019920"/>
            <a:ext cx="801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62120" y="368280"/>
            <a:ext cx="838188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Go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8381880" cy="297180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iend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08440"/>
            <a:ext cx="15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ssica'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1066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Big Move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0396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Goo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learning how to integrate technology into her classroo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"/>
          <p:cNvPicPr/>
          <p:nvPr/>
        </p:nvPicPr>
        <p:blipFill>
          <a:blip r:embed="rId2"/>
          <a:stretch/>
        </p:blipFill>
        <p:spPr>
          <a:xfrm>
            <a:off x="0" y="368280"/>
            <a:ext cx="892080" cy="1092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3"/>
          <a:stretch/>
        </p:blipFill>
        <p:spPr>
          <a:xfrm>
            <a:off x="700200" y="1781280"/>
            <a:ext cx="1558800" cy="1039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4"/>
          <a:stretch/>
        </p:blipFill>
        <p:spPr>
          <a:xfrm>
            <a:off x="882720" y="3192480"/>
            <a:ext cx="1130400" cy="1515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5"/>
          <a:stretch/>
        </p:blipFill>
        <p:spPr>
          <a:xfrm>
            <a:off x="2467080" y="1752480"/>
            <a:ext cx="1422360" cy="1067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6"/>
          <a:stretch/>
        </p:blipFill>
        <p:spPr>
          <a:xfrm>
            <a:off x="2971800" y="3352680"/>
            <a:ext cx="1766880" cy="1352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7"/>
          <a:stretch/>
        </p:blipFill>
        <p:spPr>
          <a:xfrm>
            <a:off x="4249800" y="1762200"/>
            <a:ext cx="1579680" cy="1057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8"/>
          <a:stretch/>
        </p:blipFill>
        <p:spPr>
          <a:xfrm>
            <a:off x="5435640" y="3513240"/>
            <a:ext cx="1311120" cy="12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9"/>
          <a:stretch/>
        </p:blipFill>
        <p:spPr>
          <a:xfrm>
            <a:off x="6172200" y="1781280"/>
            <a:ext cx="1227240" cy="1247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10"/>
          <a:stretch/>
        </p:blipFill>
        <p:spPr>
          <a:xfrm>
            <a:off x="7764480" y="3449520"/>
            <a:ext cx="1303200" cy="125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11"/>
          <a:stretch/>
        </p:blipFill>
        <p:spPr>
          <a:xfrm>
            <a:off x="787320" y="4962600"/>
            <a:ext cx="965160" cy="1293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12"/>
          <a:stretch/>
        </p:blipFill>
        <p:spPr>
          <a:xfrm>
            <a:off x="7899480" y="1781280"/>
            <a:ext cx="1168200" cy="12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13"/>
          <a:stretch/>
        </p:blipFill>
        <p:spPr>
          <a:xfrm>
            <a:off x="2124000" y="5122800"/>
            <a:ext cx="1360440" cy="103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14"/>
          <a:stretch/>
        </p:blipFill>
        <p:spPr>
          <a:xfrm>
            <a:off x="3638520" y="4978440"/>
            <a:ext cx="10382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TG1116</cp:lastModifiedBy>
  <dcterms:modified xsi:type="dcterms:W3CDTF">2011-08-31T00:38:29Z</dcterms:modified>
  <cp:revision>35</cp:revision>
  <dc:subject/>
  <dc:title>Profile</dc:title>
</cp:coreProperties>
</file>